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673-1B0C-4D92-AA75-DCDD6997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05D-AFDB-4CE7-BA2B-797D850D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758-1852-4FF4-9143-2094287E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A4C-A4AD-45ED-89DA-A82DF000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800-EA00-447A-B7D0-D68B1098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037-C4C5-4F31-B8B0-AD02501D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14B-28B7-4CA1-BD15-EBAA1426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57E-7ECB-40B2-9DF5-56D3857F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AA9-2868-4AD8-8A68-87F0ECCC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22D-E85A-4857-97A3-2934ECA2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D77-4829-453B-B703-3467DA79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597-1705-443D-8AA6-91F05818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3CB5-7F3B-4CFD-A810-1EF21FFE2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Why do Writer’s Wri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:  Express and Ref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:  Inquire &amp; 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:  Inform &amp; Ex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:  Analyze &amp; Interp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:  Take  A St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:  Evaluate &amp; Ju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7:  Propose a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8:  Look for Common 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4:26:32Z</dcterms:created>
  <dc:creator>BPS</dc:creator>
  <dc:description/>
  <dc:language>en-US</dc:language>
  <cp:lastModifiedBy>BPS</cp:lastModifiedBy>
  <dcterms:modified xsi:type="dcterms:W3CDTF">2009-09-21T15:50:23Z</dcterms:modified>
  <cp:revision>2</cp:revision>
  <dc:subject/>
  <dc:title>Why do Writer’s Write?</dc:title>
</cp:coreProperties>
</file>